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A401-E168-453A-A49E-3B4EFA453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71F6-93F5-4403-8700-861E8857E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FE5D-C518-4192-99F4-361C3F258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C12D-68BA-4A2A-BED0-FD14FB123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446C-3752-42DA-B0F7-DB80D11AE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FD0B-2899-4828-9E34-F227AF4E4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B62A-D3D8-4DD8-A532-66E056236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1066-1896-4009-95CA-CCB9EFF7E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09120" y="68544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670A-9E47-4AC0-B3BC-179B7C54B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D5D5-8A5D-4EDA-A2F2-6B4655325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13A8-6511-4247-8608-6383D2694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4DB0-D9E5-4978-9F99-8C8197783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  <a:p>
            <a:pPr lvl="1" marL="653760" indent="-251280">
              <a:spcBef>
                <a:spcPts val="90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  <a:p>
            <a:pPr lvl="2" marL="1005840" indent="-200880">
              <a:spcBef>
                <a:spcPts val="901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  <a:p>
            <a:pPr lvl="3" marL="1407960" indent="-200880">
              <a:spcBef>
                <a:spcPts val="901"/>
              </a:spcBef>
              <a:buClr>
                <a:srgbClr val="000066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  <a:p>
            <a:pPr lvl="4" marL="1810440" indent="-200880">
              <a:spcBef>
                <a:spcPts val="901"/>
              </a:spcBef>
              <a:buClr>
                <a:srgbClr val="990000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  <a:p>
            <a:pPr lvl="5" marL="1810440" indent="-200880">
              <a:spcBef>
                <a:spcPts val="901"/>
              </a:spcBef>
              <a:buClr>
                <a:srgbClr val="000000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  <a:p>
            <a:pPr lvl="6" marL="1810440" indent="-200880">
              <a:spcBef>
                <a:spcPts val="901"/>
              </a:spcBef>
              <a:buClr>
                <a:srgbClr val="000000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92701-3206-4C39-9E40-DDF700750EA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EFFB4-FA46-4498-BFF3-3E660D5A1A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nbflogo" descr=""/>
          <p:cNvPicPr/>
          <p:nvPr/>
        </p:nvPicPr>
        <p:blipFill>
          <a:blip r:embed="rId2"/>
          <a:stretch/>
        </p:blipFill>
        <p:spPr>
          <a:xfrm>
            <a:off x="7888320" y="685800"/>
            <a:ext cx="493560" cy="7192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7772400" y="1371600"/>
            <a:ext cx="82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Regler for aler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Kurs for turneringsledere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Trondheim 3-5 mai 2002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gler for alert                         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22E5-9F84-46D8-BEEC-1DBDF378331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4D98AB-B400-435E-9DF9-4B99817D2B5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66"/>
                </a:solidFill>
                <a:latin typeface="Times New Roman"/>
              </a:rPr>
              <a:t>Generelt alerteringsprinsipp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990000"/>
                </a:solidFill>
                <a:latin typeface="Times New Roman"/>
              </a:rPr>
              <a:t>Hensikten med å alertere er å vekke motparten slik at de er oppmerksomme på at det avgitte budet inneholder informasjon utover det en kan vente av en ekte melding. </a:t>
            </a: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66"/>
                </a:solidFill>
                <a:latin typeface="Times New Roman"/>
              </a:rPr>
              <a:t>Det er viktig å merke seg at det i forskjellige miljøer kan være ulike forventninger til betydningen av meldinger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990000"/>
                </a:solidFill>
                <a:latin typeface="Times New Roman"/>
              </a:rPr>
              <a:t>Det har derfor vist seg utilfredstillende å basere alertering på "ikke vanlig/vanlig". </a:t>
            </a:r>
            <a:endParaRPr b="0" lang="en-US" sz="18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66"/>
                </a:solidFill>
                <a:latin typeface="Times New Roman"/>
              </a:rPr>
              <a:t>Reglene fra nå av vil i hovedsak i stedet bli basert på "konvensjonell/ekte”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gler for alert                         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1C31-E05F-427D-96EF-D2D8017A5D5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334154-A5C2-4B9D-AB6E-60C6CB573B1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Hva skal alerteres?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990000"/>
                </a:solidFill>
                <a:latin typeface="Times New Roman"/>
              </a:rPr>
              <a:t>Hovedregelen er at alle konvensjonelle meldinger skal alerteres.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990000"/>
                </a:solidFill>
                <a:latin typeface="Times New Roman"/>
              </a:rPr>
              <a:t>Ekte meldinger der makkeravtalen inneholder vesentlige tilleggsbetydningre ut over hva som følger av den er ekte, skal alerteres.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990000"/>
                </a:solidFill>
                <a:latin typeface="Times New Roman"/>
              </a:rPr>
              <a:t>Ekte meldinger der betydningen er betydelig påvirket av andre avtaler, slik at motstanderne ikke uten videre kan trekke de rette slutninger av meldingsforløpet.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990000"/>
                </a:solidFill>
                <a:latin typeface="Times New Roman"/>
              </a:rPr>
              <a:t>Ekte meldinger der det kan være rimelig tvil om kravnivået.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990000"/>
                </a:solidFill>
                <a:latin typeface="Times New Roman"/>
              </a:rPr>
              <a:t>Åpning sterk 2 kl og Svar på 1-2 NT Stayman 2 kl/3kl skal etter disse regler alerteres, 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990000"/>
                </a:solidFill>
                <a:latin typeface="Times New Roman"/>
              </a:rPr>
              <a:t>Pass, Dobler og Redobler skal alerteres, når de ikke er ekte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66"/>
                </a:solidFill>
                <a:latin typeface="Times New Roman"/>
              </a:rPr>
              <a:t>TL må være svært varsom med å gi erstatning for manglende alert av meldinger som beskrives på forsiden av systemkortet.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gler for alert                         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19FF-620E-4A57-B45D-E35C1452A5A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3456E8-95C2-4482-BDDC-58AF43CC8AE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Hva skal ikke alerteres?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990000"/>
                </a:solidFill>
                <a:latin typeface="Times New Roman"/>
              </a:rPr>
              <a:t>Ekte meldinger uten betydelig tilleggsinformasjon 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990000"/>
                </a:solidFill>
                <a:latin typeface="Times New Roman"/>
              </a:rPr>
              <a:t>Meldinger over 3 NT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66"/>
                </a:solidFill>
                <a:latin typeface="Times New Roman"/>
              </a:rPr>
              <a:t>Unntak:</a:t>
            </a:r>
            <a:r>
              <a:rPr b="0" lang="nb-NO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990000"/>
                </a:solidFill>
                <a:latin typeface="Times New Roman"/>
              </a:rPr>
              <a:t>konvensjonelle åpninger / innmeldinger i første melderunde.</a:t>
            </a:r>
            <a:endParaRPr b="0" lang="en-US" sz="1800" spc="-1" strike="noStrike">
              <a:solidFill>
                <a:srgbClr val="99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990000"/>
                </a:solidFill>
                <a:latin typeface="Times New Roman"/>
              </a:rPr>
              <a:t>Det alerteres "helt frem" når det spilles med skjermer.</a:t>
            </a:r>
            <a:endParaRPr b="0" lang="en-US" sz="1800" spc="-1" strike="noStrike">
              <a:solidFill>
                <a:srgbClr val="99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990000"/>
                </a:solidFill>
                <a:latin typeface="Times New Roman"/>
              </a:rPr>
              <a:t>Hvordan  skal det alerteres?</a:t>
            </a: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66"/>
                </a:solidFill>
                <a:latin typeface="Times New Roman"/>
              </a:rPr>
              <a:t>Banke i bordet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66"/>
                </a:solidFill>
                <a:latin typeface="Times New Roman"/>
              </a:rPr>
              <a:t>Vise alertkortet (evt. legge det over meldekortene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66"/>
                </a:solidFill>
                <a:latin typeface="Times New Roman"/>
              </a:rPr>
              <a:t>Det er den som alerterer som har ansvaret for at alerten oppfatt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gler for alert                         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B7B1-943E-4249-BE1C-68836CF2094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6249BC-A354-47CC-839B-2D901950175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Eksempler på meldinger som skal alerteres I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i="1" lang="nb-NO" sz="2000" spc="-1" strike="noStrike">
                <a:solidFill>
                  <a:srgbClr val="990000"/>
                </a:solidFill>
                <a:latin typeface="Times New Roman"/>
              </a:rPr>
              <a:t>Listen nedenfor er illustrerende eksempler til alertreglene, ikke en liste som tilstreber fullstendighet. Følgende skal alerteres: 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66"/>
                </a:solidFill>
                <a:latin typeface="Times New Roman"/>
              </a:rPr>
              <a:t>Åpninger på 1 i farge som kan være på færre enn 3 kort i minor eller 4 kort i major, for eksempel 1 kløver Vienna,  Presisjon eller Beredskapskløver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66"/>
                </a:solidFill>
                <a:latin typeface="Times New Roman"/>
              </a:rPr>
              <a:t>1 ruter i Presisjonskløver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66"/>
                </a:solidFill>
                <a:latin typeface="Times New Roman"/>
              </a:rPr>
              <a:t>To kløver som konvensjonelt svar på 1NT åpning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66"/>
                </a:solidFill>
                <a:latin typeface="Times New Roman"/>
              </a:rPr>
              <a:t>Flerfargemeldinger som Marmic og lignende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66"/>
                </a:solidFill>
                <a:latin typeface="Times New Roman"/>
              </a:rPr>
              <a:t>To kløveråpning som ikke er ekte, eller som viser tilleggsinfo om andre farger enn kløver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66"/>
                </a:solidFill>
                <a:latin typeface="Times New Roman"/>
              </a:rPr>
              <a:t>Ny farge som konvensjonelt kan være på færre enn 4 kort</a:t>
            </a:r>
            <a:br>
              <a:rPr sz="2000"/>
            </a:br>
            <a:r>
              <a:rPr b="0" i="1" lang="nb-NO" sz="2000" spc="-1" strike="noStrike">
                <a:solidFill>
                  <a:srgbClr val="000066"/>
                </a:solidFill>
                <a:latin typeface="Times New Roman"/>
              </a:rPr>
              <a:t>(NB mulig 3 kort i minor alerteres ikke, men skal anmerkes på forsiden av systemkortet)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66"/>
                </a:solidFill>
                <a:latin typeface="Times New Roman"/>
              </a:rPr>
              <a:t>Ny farge som ikke er krav etter motpartens innmelding.1 over 1, 2 over 1 og hoppmeldinger i ny farge som ikke er krav i et uforstyrret meldingsforløp</a:t>
            </a:r>
            <a:r>
              <a:rPr b="0" i="1" lang="nb-NO" sz="1800" spc="-1" strike="noStrike">
                <a:solidFill>
                  <a:srgbClr val="000066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gler for alert                                             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1BAC-0465-45D0-A851-FEE0A8A47E7C}" type="slidenum">
              <a:t>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1D389A-9ACA-486E-9181-B107FE687B7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Eksempler på meldinger som skal alerteres II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66"/>
                </a:solidFill>
                <a:latin typeface="Times New Roman"/>
              </a:rPr>
              <a:t>1NT åpning som kan være svakere enn en gjennomsnittshånd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66"/>
                </a:solidFill>
                <a:latin typeface="Times New Roman"/>
              </a:rPr>
              <a:t>Omvendte minorhøyninger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66"/>
                </a:solidFill>
                <a:latin typeface="Times New Roman"/>
              </a:rPr>
              <a:t>Hopp i makkers innmeldte farge som er sperr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66"/>
                </a:solidFill>
                <a:latin typeface="Times New Roman"/>
              </a:rPr>
              <a:t>Alle meldinger etter motstandernes opplysende dobling som er krav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66"/>
                </a:solidFill>
                <a:latin typeface="Times New Roman"/>
              </a:rPr>
              <a:t>Grandåpninger som ikke viser en balansert eller semibalansert hånd eller som garanterer lengde i minst en bestemt farge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Alle åpninger som viser eller kan vise minst 4 kort i mer enn en farge. Eks :2kl i Presisjon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00"/>
                </a:solidFill>
                <a:latin typeface="Times New Roman"/>
              </a:rPr>
              <a:t>Alert for sikkerhets skyld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En melding som en ikke er sikker på om er ekte eller konvensjonell bør alerteres for sikkerhets skyld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Denne usikkerheten er UI  for den som har avgitt meldingen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gler for alert                                             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E2B3-5028-4415-A437-6A3F18819A1B}" type="slidenum">
              <a:t>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0350F7-CED7-4142-8954-5A412D6BDE8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Alert og straffebestemmelser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Manglende alert og alert i utide er feil forklaring overfor motparten og UI for makker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Dersom motparten blir skadelidende på grunn av feil forklaring eller bruk av UI fastsettes en justert scor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Det er ikke prosedyrestraff for manglende alert eller alert i utid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gler for alert                         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E463-A5F3-43F2-A633-2A7AC7C698E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96D8D1-D956-473B-B49D-A56C9373327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9T23:08:40Z</dcterms:created>
  <dc:creator>Per Nordland</dc:creator>
  <dc:description/>
  <dc:language>en-US</dc:language>
  <cp:lastModifiedBy>Per Nordland</cp:lastModifiedBy>
  <dcterms:modified xsi:type="dcterms:W3CDTF">2002-06-01T20:36:20Z</dcterms:modified>
  <cp:revision>9</cp:revision>
  <dc:subject/>
  <dc:title>Regler for alert</dc:title>
</cp:coreProperties>
</file>